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9DE-858A-402B-A4F3-F4F62E86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A91-6ADC-4B01-9AEA-30D46EEC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DD2-BA78-47A9-9420-BF7CEDBF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7D0-3168-4C57-AAD0-79731F6A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4736-F1AE-482D-AC0E-EFA3BAE3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EBCF-6283-4EC9-950F-A8D4DB7B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43AE-25D8-4779-86AB-A46B57F5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D8D2-4931-40B1-804B-53DA7B2F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A673-4318-4DD6-8DD2-700B3BFE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A05B-3984-4E6F-B5BD-01787C72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EE68-7DA0-4671-ABD4-85321B16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F88-E4BA-4467-96E5-2ED32384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C844-DD6C-49A5-A3B2-32A8F73E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438E-741A-4C40-BC4A-0AC7DB5A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D977-4A9C-4FC1-BEEC-7292F4F2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BD4F-2F32-425C-98DB-F8B137C6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DDBA-DAB7-4D44-8C76-8865BEA3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083-894A-45BB-9841-EF5476B7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C73-4DA5-4CF4-AF01-667F4038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382-2B42-49F0-9797-7DE8868E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8E6-36EF-438C-8D65-958CD430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D7A0-742C-4AC6-B660-A3618D1E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7C8-9B8E-4DFB-A6A3-EB32D467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BAF-0DDC-4C42-A1AD-86639BE1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4353-08F0-4F61-9147-42D8DA7D66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2B75-DC8B-42BA-A701-2DBFF7A5C5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La Cas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:Michelle Grasber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31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Gara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garaje. Es,increible y estupen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4448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98108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ff1a1"/>
                </a:solidFill>
                <a:latin typeface="Times New Roman"/>
              </a:rPr>
              <a:t>T</a:t>
            </a:r>
            <a:r>
              <a:rPr b="0" lang="en-US" sz="9600" spc="-1" strike="noStrike">
                <a:solidFill>
                  <a:srgbClr val="ab98fa"/>
                </a:solidFill>
                <a:latin typeface="Times New Roman"/>
              </a:rPr>
              <a:t>H</a:t>
            </a:r>
            <a:r>
              <a:rPr b="0" lang="en-US" sz="9600" spc="-1" strike="noStrike">
                <a:solidFill>
                  <a:srgbClr val="cccc00"/>
                </a:solidFill>
                <a:latin typeface="Times New Roman"/>
              </a:rPr>
              <a:t>E </a:t>
            </a:r>
            <a:r>
              <a:rPr b="0" lang="en-US" sz="96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en-US" sz="9600" spc="-1" strike="noStrike">
                <a:solidFill>
                  <a:srgbClr val="f4b99e"/>
                </a:solidFill>
                <a:latin typeface="Times New Roman"/>
              </a:rPr>
              <a:t>N</a:t>
            </a:r>
            <a:r>
              <a:rPr b="0" lang="en-US" sz="9600" spc="-1" strike="noStrike">
                <a:solidFill>
                  <a:srgbClr val="eda5d8"/>
                </a:solidFill>
                <a:latin typeface="Times New Roman"/>
              </a:rPr>
              <a:t>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a Casa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305320" cy="3789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3880" y="1371600"/>
            <a:ext cx="6705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a Casa. Es, una antigua,grande,y boni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Coci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a cocina.Es, lujosa,bella,y nuev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55627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ome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comedor. Es, moderno,bonito,y estupen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47628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a Sal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a sala. Es, antigua,nuevo,y gran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Ba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ñ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bano.Es,grande y mod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Cuar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562720" cy="361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19320" y="16765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cuarto. Es, lujoso, viejo, y fabulos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Pat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Patio. Es,impresionante y bell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Photo of outdoor hot tub.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Jardi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jardin. Es, grande y boni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10:03Z</dcterms:created>
  <dc:creator>grasbergermic</dc:creator>
  <dc:description/>
  <dc:language>en-US</dc:language>
  <cp:lastModifiedBy>grasbergermic</cp:lastModifiedBy>
  <dcterms:modified xsi:type="dcterms:W3CDTF">2013-04-04T17:15:34Z</dcterms:modified>
  <cp:revision>6</cp:revision>
  <dc:subject/>
  <dc:title>La Casa</dc:title>
</cp:coreProperties>
</file>